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9.png" ContentType="image/png"/>
  <Override PartName="/ppt/media/image8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40FB-25A2-48E7-8DBA-00B71FBD3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126-C743-4E3F-BC95-DD897CAA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A2C-7F77-4869-9D10-953C6238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6D5-8B86-40CF-B91D-AD72A597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E76-7177-468F-A990-D3380602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916-0259-49B0-9DA7-ADB9385E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BC3-84C7-459D-AD78-558C3433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089-7BCA-4662-B47B-F10E6FFE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12E-49EC-432D-B2D0-76AB22A3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E5D-C8E4-4C3E-B039-094FE3F0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44A-A83E-4A5D-9C47-905FF09C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03A-D35D-4454-A6CB-6BE508F7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B91-3FBA-4E48-B85A-18531AE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43EB-4AFD-4240-B71D-45EEA749B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ish Explorers and Pre- Columbian Civ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ames R. and Ryan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4495680"/>
            <a:ext cx="234288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80840" y="6324480"/>
            <a:ext cx="54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os.state.nm.us/images/Conquistador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29000" y="0"/>
            <a:ext cx="155736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16765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recolumbiancivilizations.pbworks.com/f/1242761780/toltec-indians0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3349800" cy="3581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93480" y="54100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from clip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located in Central Mex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capital was Tenochtit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which means they believed in many g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ontrolled other tribes in the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Prisoners Of War as their sla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taken down by smallpox a disease brought by the Spanish accide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1295280"/>
            <a:ext cx="2219400" cy="181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4000680" cy="3219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22600" y="4724280"/>
            <a:ext cx="47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vcc.edu/home/amalitzkego/alex-solorzano/Ancient_Vacations/aztecs/images/aztec_map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located on the Yucatan Penins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many major cities which made it hard for the Spanish to conqu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 have as much gold as the Aztecs and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polytheistic which means the believed in many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slaves which could gain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5812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vcc.edu/home/amalitzkego/alex-solorzano/ancient_vacations/mayas/images/maya_map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3276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located on the Ande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capital city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which means they believed in many g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no written language but used knots as communication as well as spe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acticed animal sacrifice (Llamas) occasional children sacri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a civil war between two different groups to decide 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20 million members of their civiliz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257800" y="259092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52880" y="51814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ncp.edu/home/rwb/inca_map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onquered the Azt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thought Cortez was their god Quetzalcoa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estroyed Tenochtitlan and founded Mexico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and there leader welcomed Cort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ame to Mexico in 15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ere other natives who helped Cortez defeat Azt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86280" y="1600200"/>
            <a:ext cx="35625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63040" y="6172200"/>
            <a:ext cx="49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tc.usf.edu/clipart/100/113/cortez_1_lg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easily took over the huge empire of the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killed Atahualpa after Incas paid ransom to fre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used Inca engineering to his advan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raveled with only 180 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338796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14800" y="6216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tc.usf.edu/clipart/25200/25280/pizarro_25280_lg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the Spanish Changed Aztec, Maya, and Inca Life For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estroyed the Incas and Azt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anish brought smallpox to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rought their culture to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hanged many polytheistic religions to Christ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2971800" cy="2886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641200" y="4952880"/>
            <a:ext cx="2084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cture from 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46:22Z</dcterms:created>
  <dc:creator>jklib</dc:creator>
  <dc:description/>
  <dc:language>en-US</dc:language>
  <cp:lastModifiedBy>jklib</cp:lastModifiedBy>
  <dcterms:modified xsi:type="dcterms:W3CDTF">2011-11-29T16:10:46Z</dcterms:modified>
  <cp:revision>12</cp:revision>
  <dc:subject/>
  <dc:title>Spanish Explorers and Pre- Columbian Civilizations</dc:title>
</cp:coreProperties>
</file>